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74B-0FF8-42C2-8A17-C0E85D04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look for examples of cause and effect signal words in text books and technical man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50B2-D989-4EC8-84DF-AF13C9DB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15AF-9055-4928-93FF-DAB4CB03C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8851-A641-4304-B5FE-DB164FACD03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8943-A248-4F74-BEA3-0874428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73FD-21EA-4159-8CB6-299C2A2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27575-D955-40F1-904A-23E1481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C7C1-9F68-4273-94DA-547C8D8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32EE-FDE8-4E87-A956-78454A6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5B72-8821-4D13-8EB9-49C9ED6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73AF-73E2-4C74-86F3-5D59D40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81DF7-71A7-404B-8089-21890D47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54017-2B00-4735-812D-B3350C3C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3573E-D663-44D7-A1F3-5B527687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D2A8-37D2-484D-9B97-2CB4BE8DC8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294E2-CCEC-4FE4-9F1B-AC73D45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91C81-6CD2-40DC-B304-AFDC4DD9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BEB6-2C80-492F-B773-8F88E28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D930D-561F-4EE9-A098-514F5BE3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135C-E92E-414D-B11C-8BE52B2C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AC684-3EC9-491A-A459-497464A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7A43C-6D34-4078-91CA-BF0D8702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759E1-78D8-4974-94EE-ECB884F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60BD-46CD-40C6-AB1F-80CBC47F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ABAE-CDE9-40EE-B7EC-98359577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3AB5-C24D-42DE-A6E5-42BCEE8069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7923-156C-4CAC-976A-63ABAB89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44879-EC2C-493F-99A9-FB6A2F49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68226-29B5-4F2B-937C-E1898C3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72749-76B8-4606-85D7-5B74875A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AAA44-F959-4446-A93E-C133035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7B117-305F-4884-B4D7-C0FF6927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367AF-CAD5-4192-A711-9C3C4929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CCC3D-43D9-4EDA-A3CE-D3C4970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0D5B1-D251-421F-8757-BB7C1924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62122-6A01-4F6A-A943-2D84F58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AFE-5A88-4D54-9999-711AEF7C0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6F1E5-EA05-4DAC-8DC3-85891BAF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E01F1-1DFB-491B-A6B6-AC77597C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92BED-2AEB-48CD-8D39-9C58566E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294F8-854C-421B-A46D-98AB7C93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6064-D382-4E7F-B8B0-FDCFD5B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9833-E966-4CA5-8031-0D79E07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2D32B-6F28-441D-90F2-8871180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8064D-EE85-4011-B088-CB6D0092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93AD7-DCD5-4D7D-AF97-3099EC12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0D4AD-2396-44DA-A483-16451D1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3FB-366D-4E92-B8BD-135280F5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D768-F5C9-4513-8D60-862A6AD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A179C-D8D6-4D17-9AF8-726331FD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52381-49FA-4F2B-BF59-E7BBA94A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0042-64E2-47CD-86BA-962B86B7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4B9C-65C9-4084-AEAF-5378660F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2F7-8F7D-4E67-A5EC-89886512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235-4381-410E-B09A-DA3094C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59A-3380-48B0-B5AD-0B79963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C5E-DA72-4020-A696-A6245D21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AC9-4B52-4735-8843-4E3D717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AA75-413C-4972-8A20-B54A2D4A9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13D-FB21-4506-B9E2-A925E10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93D-A780-46FB-B179-822B63B9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752-4C65-4355-B04D-7AD3FDFE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C9D-1C3D-4687-BEAC-FE1E69C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452-3C8B-4569-86EB-564D0A347D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E13F-358A-44E5-AA69-0EB5E0B7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C296-ADDF-47DB-8756-2F23113C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06E-C098-4FD5-A383-B764427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DD4B-8C50-4673-AB56-12A2D06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6AE-2F60-47F1-BD27-58A9EC2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55A0-71B7-4970-8BE4-F19516CBB5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33F-F064-4F32-BC0F-30195C0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A983-D4E1-4390-A2A9-5318294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378-BB8F-4B9C-8827-3D39BFF8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86D-6A00-477D-93D4-BC9B978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CEDE-2C6B-4372-9CAD-87547BB7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F4D-37D3-418F-90C8-13975D1C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8D40-1734-4E0E-93F8-D90ECB12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809A-3434-4D75-94B3-B1B7B723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5A6A-09D5-4043-B703-86C8C51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129C-45FC-4B12-8796-64D8EA12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756A-6694-46D7-A349-A22FFAF227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9644-043D-48B4-93C3-A460EF6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04B8-F8BE-4071-B880-43CC1A3A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A2E6-9D4A-47BF-B286-1EB57FB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073A-2135-43FC-8BE5-4F3BDEC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8DFF-E040-4548-B2EF-E9BA6C1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BE47-1C28-42FA-865A-F9C08BC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4611-C67A-43A4-A4CD-169F927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46E0-CC8A-4C02-8123-A131DF0B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8781-F4D2-4D21-B2E4-1ABE6C27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72B2-B1E8-4109-B750-A0A86166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AE60-29BC-4C9A-ABF7-8C5D8FA99B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8EB6C-4020-4049-B2BA-4F5C490B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D226-BABB-4F0A-8D5F-ECA2E5A7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1D1C-19B5-416E-BE96-832F4D96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8453-A910-48D9-BD2A-5F75F08E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F95B-8B75-4E7C-A9E9-4BD5CCB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8D42-5EB3-4CB4-8CC6-09116A1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2463-1C7A-4669-BB74-961AABC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BA33-AC59-4F45-AC99-7387B3C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9F95-08B6-4493-AC31-39E8D45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F273-CE0E-467A-A59F-12EDA5D6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0CE0-90B9-4982-89D5-44FE3E4753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EFE6-11C6-408C-A4C6-4442786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A8ADE-CF9E-4BF1-B170-DB950160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6AD2-C16B-457F-8A97-2006629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BD42-5B1F-4682-A7A7-8CDD8C52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B9E6-74B6-48B5-8554-FC08D89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A889-7E71-42B9-8411-6BCE8F42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96C0-EBAE-4949-8107-FB6F4D50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49E5-3B96-49E4-BCB7-D355E2B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F27F-6C3D-4ABD-BAD9-A7C485B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7562-F6C2-4B79-A2DC-18E1544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7BF9-594F-4D67-B00B-3762A2A2D4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C4F1A-F756-4A8A-A732-0703CC63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2D7B-10E0-436A-839D-6ABCE01C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EB31-D366-4790-BD7E-E65342B4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E9620-73F0-47BC-A34C-088AB544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1162-2BD4-4A13-ACB1-6931A6F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9F93-FA92-406C-B861-11555D2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33AF1-8B62-4C8F-BD50-86EFA2E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23C8-C47D-4396-8EC0-9082427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676C-4F1F-4114-9808-0B0A07C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E1D6-713B-4EB6-A556-8417226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B300-1597-429D-B517-B56E89F1CB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732D-BD35-4626-8F63-F5C22B1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FBE1-ADD7-4000-9C23-413D94B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9094B-2418-42BB-89E2-868AC28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764B0-9042-45B2-B1CA-AFBFBCA4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E665-017C-4D5C-B9A8-878C6480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FC244-D24B-4107-A0CF-100193C3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449C-B599-4670-A3CD-6E019F23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1CFD-DDB5-4E95-AC25-82A58A5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9FF1-F749-4D56-859F-5B4E44B0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0F31E-FCA0-4BE9-B7C0-CBA66E22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BF37-FA9C-4292-951C-C3AF301407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F34F-3C1F-49DE-BB9F-E3A7ED2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B6BF-148D-4061-A0F7-A1787B9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19F1-73B0-4176-9DFA-A681AF8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ADE0-C886-4CCB-BFA8-AE2FDBB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D8D9-871E-4111-8A94-1388802C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4FE5-B5F2-4BAA-9C9D-1C4D9FAD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628A-88E8-4418-BBA6-A8EF4134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85E0-0082-4B7C-9B05-8B536CB3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F426-A0F3-4239-B4E6-878592C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07DB9-D228-48B8-94EA-80B0463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7FD-7DDC-455F-B4CA-017E4489714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C466-593A-459A-B7EC-55DB94EA071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498F-5181-4BB2-9767-3F69AA7C19C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A4D-C3B8-4609-A776-9C528BF26A2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0F15-16BA-4B81-B91F-1707E3054FC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33C-ABA5-4C00-B007-FD4A395E47A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726-7358-436A-849D-06218786369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5B2-4F32-4286-8A97-724F61DBC30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FA3D-F316-4D9C-83B5-FFDF0CDA4DA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A1D-FD04-4265-AFCE-4A5BEA3326B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48A-FAEB-4594-A99D-D9D5A1B26FF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DFB0-0C09-4D86-9779-98AEBA2D145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 the piston pushes the fuel/air mixture into a smaller space, it creates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press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because pressure on the fuel/air mixture is greater than befo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Piston pushing the air/fuel mixture into a smaller spa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Increased pressu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pression must be an action than increases the pressure on something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undamental Ag Mechanics students use cause and effect clues to understand the operation of a four stroke internal combustion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g Mechanics—FAM 2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pair internal combustion engin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rite a description of the operation of internal combustion engin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1.R.1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can apply cause and effect clues to extend vocabula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cause of an action or event may be stated using an unfamiliar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If the effect is stated in familiar terms, it can help the reader understand the unknown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 weeds in the garden are so profuse that I can no longer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at does the word “profuse” mean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There are many wee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You can’t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ofuse must mean a large amount of something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ords signaling cause and effec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n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fo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a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intake valve is open during the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inta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. As a result, the air/fuel mixture enters into the cylinder and combustion cha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Intake value is ope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ir/fuel mixture can enter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ntake stroke must mean a period before power is created or a time when new fuel comes into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spark leads to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bust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; consequently, the explosion pushes the piston and the crankshaf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A spark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n explosion that creates pow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bustion must mean lighting the fuel/air mixture to create an explosio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59:15Z</dcterms:modified>
  <cp:revision>15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36005786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